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69438"/>
        <c:axId val="60976831"/>
      </c:barChart>
      <c:catAx>
        <c:axId val="40269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76831"/>
        <c:crosses val="autoZero"/>
        <c:auto val="1"/>
        <c:lblAlgn val="ctr"/>
        <c:lblOffset val="100"/>
        <c:noMultiLvlLbl val="0"/>
      </c:catAx>
      <c:valAx>
        <c:axId val="609768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69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142-8289-4289-9D67-47CC958A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4FD-945E-42E7-B551-D8B5F979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889-1128-433C-8603-A0989B51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A5D-98D8-45ED-9A51-4B315098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7EB-E9AD-4197-936B-84293DF0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77E-64FB-4620-B847-F911E0F3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46C-AF91-4A29-8631-2BC8CFC4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774-8F30-40E4-84E4-48499EE8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4E4-4286-49BF-8394-04CBD275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2D8-3E46-49FD-B14B-EC5F579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5CB-4605-4FBC-A214-630EB33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50C-5D24-4E6A-8023-60C5E460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C3359-0E12-44CC-BB87-697543EC32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