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66809"/>
        <c:axId val="64908768"/>
      </c:barChart>
      <c:catAx>
        <c:axId val="9886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08768"/>
        <c:crosses val="autoZero"/>
        <c:auto val="1"/>
        <c:lblAlgn val="ctr"/>
        <c:lblOffset val="100"/>
        <c:noMultiLvlLbl val="0"/>
      </c:catAx>
      <c:valAx>
        <c:axId val="64908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CE9-8D8A-4CA2-8A2C-E8493924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72F-B6C0-44D6-8F7F-83B793C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1B5-77B7-4C2A-A8DA-8F90153C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80D-6795-4B75-98CA-380CC9C5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C23-1AEC-417A-AFA8-C234A18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EE7-019F-4B7D-98EA-A5D98A54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782-B907-4383-BF6E-222EEB90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C98-846C-459D-B9FB-9AA62740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E69-082D-4049-A73C-E7983276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15-366C-4C38-A358-276E343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BFE-284D-4975-BC0F-244B48F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F01-FE4D-4CE4-9A83-941FCD44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4B4CE-8F58-42DC-A5D3-BFF972EA0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