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58309"/>
        <c:axId val="97286121"/>
      </c:barChart>
      <c:catAx>
        <c:axId val="19458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86121"/>
        <c:crosses val="autoZero"/>
        <c:auto val="1"/>
        <c:lblAlgn val="ctr"/>
        <c:lblOffset val="100"/>
        <c:noMultiLvlLbl val="0"/>
      </c:catAx>
      <c:valAx>
        <c:axId val="97286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58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07A-4C03-4652-8C0F-AE1A59FA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907-245A-4ADC-BCA0-C3001AFD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5A9-C145-47F3-97E0-B9724B26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0AB-9D10-4063-88AC-CA8E161A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17D-D3DF-42E6-AD32-BA53CD1A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8D9-3951-4A57-8F55-4E0CCDA3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BC6-E5B8-47CE-8402-69D1485B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1CC-DC58-4CC1-AA93-5F522A33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F15-95A8-40B2-A23E-6239806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21A-51BD-44A5-8C0D-1687D12A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C55-38A7-41DA-8BBC-FB9A1B9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BD9-F236-46B2-8F5C-406A2076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D7AF2-84AF-4914-8EEE-6D30EF7388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