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25886"/>
        <c:axId val="39008281"/>
      </c:barChart>
      <c:catAx>
        <c:axId val="318258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08281"/>
        <c:crosses val="autoZero"/>
        <c:auto val="1"/>
        <c:lblAlgn val="ctr"/>
        <c:lblOffset val="100"/>
        <c:noMultiLvlLbl val="0"/>
      </c:catAx>
      <c:valAx>
        <c:axId val="39008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258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8C9-34ED-4628-BE7F-ADF38ACD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ACF-23FA-48DB-A6BE-99B41547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F17-CCC9-4C1A-9597-080277B8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4EC-F839-4CD6-AFFD-A923A0D3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7EC6-5E22-4C82-B96A-CCDCE217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8E0-6495-4DDD-A06E-44B8003C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64A-32CA-49CE-A3EA-05FCBCE7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826-FDE2-4B6C-A9A1-3708DEBB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316-D8C6-4965-A182-3D039740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6A8E-2C3E-432D-BAC2-C14F5DB2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B6F-5749-4346-B86A-48A1BB64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813-1D13-498F-B213-2B6DC44B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90328-D4D9-4AB0-8484-B34198D289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