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86232"/>
        <c:axId val="15661335"/>
      </c:barChart>
      <c:catAx>
        <c:axId val="61386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61335"/>
        <c:crosses val="autoZero"/>
        <c:auto val="1"/>
        <c:lblAlgn val="ctr"/>
        <c:lblOffset val="100"/>
        <c:noMultiLvlLbl val="0"/>
      </c:catAx>
      <c:valAx>
        <c:axId val="15661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86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2E31-5CC6-4435-BA33-CCD487CB8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4821-794E-4473-8A74-646FC43F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B7F-CAA2-4E25-BEF8-73B1A928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4C31-2A6E-48C4-A4E1-6BA303CC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459B-78B9-4D0C-940C-076A1AC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CFFE-91DA-4DEB-B770-8B81B92E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6C5-804C-4DFA-A35D-17A40EF0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F28-3C00-42F5-AB82-B436A57C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1FCA-7255-4295-AB56-C53A8BFF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76C-5B57-4B6B-B56E-9AB8272C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D96-FD07-4F48-90C7-731C4C1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A94-099E-47A8-9D2B-DC7E6568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19A4B-A8A8-440E-A3C4-3CBBDA731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